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C421-0CA9-40CA-87EC-97CBE1BC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E565-4EC7-4155-8F93-1494F936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908B-4C0A-4AFE-806C-74E47B77C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FE5D-F43A-43FC-9217-EB76554F8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8D20-448D-4A20-97A9-8326265B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7E5A-9318-446C-810C-915E1966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D86D-0F49-4C25-806D-6FB0BAFE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8708-7B47-4CEC-83E8-7220BB9A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408C-CB96-442E-8A58-4324413F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5661-7136-4EAD-B329-D056DE3E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79E8-305F-400A-BD68-CFF0DBDE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A818-3D6F-4F1E-BCFC-3C899057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7518-51DA-4335-8E5E-448F4324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97AF-8535-426B-AA45-94E4B5F8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FFA2-877E-4D00-84FD-5447D12C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3B37-AAE3-47BF-B220-0BDE1DF94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EF9C-76C6-4195-B24E-48222D353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9219-7A2A-4435-851F-69A72196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97A8-7B3A-4FC6-ACF2-3F1A157B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1DCB-4D10-42AC-83A4-49CCC756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5864-2506-4AE4-959E-2DD52A07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97FA-6346-4F71-9078-7EEB3CFF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2D97-E5F7-4D4F-8CC1-D7DF85A0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0619-831C-461C-9A52-53589A5C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1634-4E7D-439D-9201-40604AB0E8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2991-1122-41CF-BE66-60AC89C405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504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ow To Run a Successful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Brainstorm Ses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8880" y="4981680"/>
            <a:ext cx="17528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uss the Objectives of the Exerc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big picture business goa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layers realize why they have been invi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the specific goals for the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Up a Relax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pen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meet at a fresh location that may be less stress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refreshments and music upon en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iminate negative or stressful pers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a Positive and Focused T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to get the team in the mind set of your intended customer by providing customer examples or case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humor and positive examples to encourage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the Guidelines for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resented ideas are NOT challenged or “put dow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up front that those who consistently make negative comments will be eje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ppropriate Tools Avail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truly rea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 white board or large tab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 a scrib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ccess to the internet and corporate intranet for quick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sure you eliminate all interruptions or confli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oderator -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to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someone the group will trust with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confident with subject mat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pose questions to get group back on track only when nee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features do you think our customers value the mo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 Col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a relay system to deliver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scribe write large enough so ideas can display and branch off of each 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e Energy Arou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se New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team refine and then present the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ly post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 through on best ideas to create energy across the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9:23:04Z</dcterms:created>
  <dc:creator/>
  <dc:description/>
  <dc:language>en-US</dc:language>
  <cp:lastModifiedBy>DataViz, Inc.</cp:lastModifiedBy>
  <dcterms:modified xsi:type="dcterms:W3CDTF">2002-07-02T23:15:54Z</dcterms:modified>
  <cp:revision>44</cp:revision>
  <dc:subject/>
  <dc:title>Successful Brainstorming</dc:title>
</cp:coreProperties>
</file>