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4582-8A84-4496-963F-A802BA5F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A338-9791-40B2-9BD4-B7D29469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6B17-DBAC-45A5-B6A8-EAAC16CF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9A8E-1843-4E26-9DEF-B8D00844F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A762-C3CE-4540-B35A-A65829B7E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AF86-71DE-46DA-A2F8-B4754870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8D35-487A-4487-B478-C76DA68C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12A7-F9A9-48C1-8562-49EF7C5A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1EE8-2938-4F39-A7DA-CFF6FCFF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5894-D813-4E4B-AAE3-E0EEF84C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17A6-C580-4E19-A3CB-6EC20C03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19A9-4C33-47ED-A0D4-F65BE936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7A59-F747-4E09-92D6-A0D03ACD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BE62-BFB3-4473-B58F-F479A846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BD7A-1F48-4AB6-9A29-D29C9242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715F-C024-4E90-AEE9-D3FE21689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09B3-A6B4-4C79-BA2F-02E2DAB94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4541-3287-4F3E-95CF-5AD04FFE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5F8C-8D37-4F52-A52E-26EBAB6E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0C9E-EFE4-4590-820D-A3298B6B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7C91-4A69-457D-8F88-310ACFE3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45B6-26F2-4096-8B07-8E2E85BA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8EA5-749A-402A-B242-20F315F9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9102-2767-4F6D-A550-8E528DAC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3FCC-1B7A-4AB7-AB01-EE51B886D3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B216-0F94-4AEE-AC6D-D759D309AF2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Fechando o negóci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520" y="3657240"/>
            <a:ext cx="807696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ap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ei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ad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oci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o etapas para fechar um negócio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ã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icitar o negó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r a v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r o negócio com confian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Focar a questão O que ganho com isso”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sa é a pergunt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vorit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seus 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ba por que eles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e-os por que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e com eles o essencial: como este negócio irá ajudá-l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Solicitar o negócio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ou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sidad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apresentou uma solução de consultoria para suas necess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ganhou o direito de solicitar que eles comprem sua solução recomendada... Então, solici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Parar a venda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re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s solicitaram que você os atendesse e você os atende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nto mais você fala, mais eles acham que você ainda não concluiu o fornecimento da solu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 de falar e deixe-os deci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Fechar o negóci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óci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á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a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ç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o cliente perceber que você confia em sua solução, eles confiarão ne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confiança vem com a prepar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aie sua apresentação final e prepare respostas às objeçõ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3:58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