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E57F-6444-43E5-BAA0-5AD39ADC5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85BC-287E-4239-865A-33525FBB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D6A5-9F6F-485F-94BC-878E4E780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577E-631C-4B55-9C11-879D5777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2811-6F13-4A3C-A3FD-495A93C02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F9FD-7F08-4F62-BA58-09FF6957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61AE-BF50-423E-9EE2-B98DEA40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A0B8-BE20-4641-A025-937691CB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A89A-3860-4CCF-AFA4-C5F7CFB5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B5BD-FE88-4028-9A11-70FFE0BC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241A-E691-4DE4-B7B0-A8E97C0C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0FB3-A429-4AE9-9E76-5592D5A4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429C-B6A5-4CAB-BF1E-C62AE0D7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2154-BC66-49F9-805F-2CC22E6B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2D56-8954-43E1-BD79-84CC34E0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3306-7D8E-43B9-9627-8D0147B0D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2DA7-2885-422A-8335-B2653B672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1857-536F-445B-8664-FACC18B1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8FF0-53D2-41DA-8B63-C6D35A3A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E5FB-6A46-44CA-B5F8-DAE4F5EC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A2AC-2123-4408-8240-F0A29D0D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6892-5176-441B-BD95-87752441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13B1-711E-42D1-8DA8-CD715F17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4A49-D624-442A-B98C-43DFBE22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AD88-2121-4C43-A806-D1F040EE60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9426-D232-4805-A4D9-C4EC4FBD1A1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onclusione di una transazione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sagg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corda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s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qu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saggi per concludere un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rre la trans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rminare le trat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dere la transazione conquistando la fiducia dei 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Individuare i vantaggi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i vantaggi costituiscono l'argomento preferito dai clienti e l'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he desiderano ascolt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rire le motivazioni dell'acqu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ttolineare tali motiv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arsi a illustrare i vantaggi offerti dall'eventuale conclusione di questa trans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rre la transazion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a consigliata una soluzione in grado di soddisfare tali esigen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ora possibile proporre l'acquisto della soluzione consigl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Terminare le trattativ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osc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ri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o fornito ciò che i clienti hanno richi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secuzione delle trattative potrebbe convincere il cliente che la soluzione offerta è incomp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rompere le trattative e consentire al cliente di prendere una decis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dere l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s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rminat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l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du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cliente avrà fiducia nella soluzione se percepisce che il venditore è sicuro della soluzione of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e sicurezza deriva da un'adeguata prepar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are la presentazione finale e preparare le risposte alle possibili obiezio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21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