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9B12-7FD7-441E-8234-B83B7DA4C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20B1-5C67-4765-AB90-C82AF961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83D3-7886-4F90-B48D-5EB466251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EDC6-5F2F-447E-8281-640865F2B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3674-2B44-4693-9CDA-964F485D3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E49A-600D-4B22-9743-B36BB3F7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1298-7041-4342-9498-79109192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0C00-EF07-49B2-A2B7-84726D95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5DF72-1BE2-4E2A-9F2B-2A860A69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61BDA-F657-46C0-98BD-538C57C6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7639-E62B-4F75-8A1F-919AC7F9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28BD-4593-454F-AF88-C49FCA16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5DE55-B1D7-4033-9BF8-68CD3D7F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B4374-FF86-450F-9780-23ED71CC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D6E1-9EF1-43AB-8E15-9CF14037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1B5D-336C-4553-8900-ADCFF83CB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ED3B-54E8-4A6C-A197-69019774D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5D78-1B0A-4E38-945E-8EBC94DB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F60B-B58D-4A95-9A26-521D65CD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62CD-B491-467F-9693-56DE5C12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B761-5AAB-4522-9176-FF9CF534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2821-5528-440A-B069-CB96D0B0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6CA2-59FC-4768-A49A-C2936920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9C5A-5AF2-4988-95A9-94F7C4B8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C020-8B5E-4BD0-A21C-121E0FBF166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4CED-7B3E-455E-B8CE-BB286EF6CF7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Conclusione di una transazione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sagg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icordar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s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qu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 passaggi per concludere una transazione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tagg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rre la trans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rminare le trat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dere la transazione conquistando la fiducia dei cli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Individuare i vantaggi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r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tagg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i vantaggi costituiscono l'argomento preferito dai clienti e l'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he desiderano ascolt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oprire le motivazioni dell'acqui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ttolineare tali motiva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mitarsi a illustrare i vantaggi offerti dall'eventuale conclusione di questa trans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Proporre la transazion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enz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stata consigliata una soluzione in grado di soddisfare tali esigen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ora possibile proporre l'acquisto della soluzione consigli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Terminare le trattativ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osc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ri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en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stato fornito ciò che i clienti hanno richie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osecuzione delle trattative potrebbe convincere il cliente che la soluzione offerta è incompl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rompere le trattative e consentire al cliente di prendere una decis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oncludere la transazione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s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erminat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ll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du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cliente avrà fiducia nella soluzione se percepisce che il venditore è sicuro della soluzione of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e sicurezza deriva da un'adeguata prepar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are la presentazione finale e preparare le risposte alle possibili obiezion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5:21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