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6DD4-246A-4E10-B533-9191D605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1842-06F0-495F-8691-8CB05264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1F72-3BC8-4F19-A78C-426628A5C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8579-9E0D-4977-BE9C-3F9749EB0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BE88-6DAE-44FC-8199-5C46DB6E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4F9C-8807-4806-8E46-146B86C5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8E3B-4FD9-45C1-95DD-9F2B0C42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67E0-0006-4934-B69D-BA889641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F688-EB6F-4142-8BBF-B40377CA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8EC7-FD2D-42CD-A0B2-0AC2C374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FD90-F7F4-4890-B02B-B2E5B174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F1AD-2612-483E-B9A6-757CD43E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6BEF-4638-4049-9C66-813C64F1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2B14-AEFF-4F65-9150-EDD81733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8BE2-6493-40B4-B950-AF1B2D4D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1B0E-8F4C-4EBE-8C25-2AC5C7A6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5B45-4297-43B0-A3AD-A65DA248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9749-BDBF-4613-A5EF-439641F5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DB07-072E-4710-A483-5ADB0D65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D3DD-A986-43A1-A277-6832B109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74B9-B7D6-4489-8C4D-900FB317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FE28-9665-45BD-80D0-7ABF0ED7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C922-E01F-471A-AD41-D48C7C61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A744-9D55-4868-8646-17CC689B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7A3E-D3CD-4B88-91D9-DDEF7561BB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B07A-AAB1-4FBA-8682-920EC918CF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504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ow To Run a Successful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Brainstorm Sess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8880" y="4981680"/>
            <a:ext cx="17528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uss the Objectives of the Exerc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big picture business goa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layers realize why they have been invi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the specific goals for the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Up a Relax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pen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meet at a fresh location that may be less stress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refreshments and music upon en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iminate negative or stressful pers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a Positive and Focused T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to get the team in the mind set of your intended customer by providing customer examples or case stu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humor and positive examples to encourage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the Guidelines for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resented ideas are NOT challenged or “put dow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up front that those who consistently make negative comments will be eje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ppropriate Tools Avail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truly rea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 white board or large tab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 a scrib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ccess to the internet and corporate intranet for quick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sure you eliminate all interruptions or confli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oderator -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to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someone the group will trust with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confident with subject matt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pose questions to get group back on track only when nee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features do you think our customers value the mo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 Col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a relay system to deliver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scribe write large enough so ideas can display and branch off of each 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e Energy Arou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se New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team refine and then present the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ly post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low through on best ideas to create energy across the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9:23:04Z</dcterms:created>
  <dc:creator/>
  <dc:description/>
  <dc:language>en-US</dc:language>
  <cp:lastModifiedBy>DataViz, Inc.</cp:lastModifiedBy>
  <dcterms:modified xsi:type="dcterms:W3CDTF">2002-07-02T23:15:54Z</dcterms:modified>
  <cp:revision>44</cp:revision>
  <dc:subject/>
  <dc:title>Successful Brainstorming</dc:title>
</cp:coreProperties>
</file>