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5A70-3821-4E12-AA88-C20892647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4A36-2258-467F-9747-3567341D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1497-CC2D-4560-A69B-A47ACEDEE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1793-7A6C-485B-AA72-2D8665EB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E775-5E8F-47AD-962D-7F151E63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C9B4-7F77-452E-BBAE-78C916E1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6089-C731-43B7-81F9-9768DDE0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2A27-F2D3-4C72-997D-1B27FD27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3499-AE0C-49B4-842D-883E5F1D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25B6-C5D8-4242-BDF1-CAFF94F1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0AA2-8A46-424E-A524-3B80AD72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5038-204D-4EBD-A38D-0E59F3B8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F619-DCF2-4D34-A9D6-460266E2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452B-7648-44C2-AF0C-FA9761A7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8507-CDA1-4330-A841-1E48F712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9424-75DE-4008-83C9-CB74C41FA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ABA8-AD83-4C91-B530-E32537C1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432B-1E57-4AC7-BC82-CE2A9409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6094-F796-4AA9-96F3-8269F9DC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1A63-221D-431A-92AF-BFB0651D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442E-3B68-4633-BCD3-0666DC9F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8163-7210-439F-BE85-70E2FA08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8ECD-2187-4C6E-9FC9-C47783B1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E4AE-7C67-4F28-A210-4A8BD3B0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671A-C060-4356-BF14-1718BD4ECF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F05C-A66F-461F-9523-934EBA22EAA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errar el trat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440" y="3765240"/>
            <a:ext cx="8001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i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rd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os para cerrar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ton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nga el 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v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erre el trato con 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Sintonice la radio en QHPM”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é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y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la emisora favorita, y 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que su cliente escu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uérdeles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ábleles sólo acerca de cómo les va a ayudar este tr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Exponga el trato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idad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ha presentado una posible solución a su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se ha ganado el derecho a pedirles que compren la solución recomendada... ¡Pues pídase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Deje de vend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han pedido que se lo facilite, ¡y ya lo ha hech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anto más hable, más pensarán que no está satisfecho con la solución ofrec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hablar y permítales que deci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ierre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r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m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los clientes creen que usted tiene confianza en su solución, ellos también la tend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za es producto de la prepa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la presentación final y prepare respuestas para posibles objeci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45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