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73EF-1726-4368-927C-9F0AE2E6E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829D-C00B-4FBF-B75C-62D7BDEE8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988D-7855-48D3-AD5A-A7134B20F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05ED-E2BE-4977-A34A-62BCB0650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143E7-9D2C-4ABA-9FFB-2040E93F7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C94C2-B82E-40BF-B551-FAEC8DE46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FCAE7-220E-407A-A6AE-6D867C99D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6C219-2D56-4F48-B466-9B42FBE39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DD0F4-7DCA-4B24-80C2-7FF3002B1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98DE2-E828-4452-946D-AF2EFB667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C4883-33C7-4F3B-B7F0-4DF4DA383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BD51-88EF-4681-B280-F8D8F4D84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3AF4D-0ACE-4036-A3D8-9550E4998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79DE9-3B77-4C5D-8A17-43F1E6B56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CA1B9-5A90-4EC5-A4FC-082AFB10E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E4858-79F6-4599-A191-CE1517142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225E5-3DB6-4D3D-AC59-E82BABC72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BCF9-4240-4502-8DF4-0104ECA67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9B1D-4D3A-4E99-89C5-F311FE61B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BA7F-569B-4EEF-84CE-007F774B6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0CE0-A360-4D16-BD81-AD6DE694B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CFF3-DEFE-4333-AD9F-0D536D1E9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0742-E62E-44E0-80DB-F50F76236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22B3-58D0-43AE-AA54-3F91B18FE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C54AE-A1AE-4DA9-8609-4896DF39E9C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E0A2E-99CD-4E02-BF09-98B75809E7C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4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2057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Signer un contr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761760" y="3765600"/>
            <a:ext cx="746748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atr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seils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aciles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à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ppeler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u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ment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clur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r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560" y="91440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Quatre conseils pour signer un contrat</a:t>
            </a:r>
            <a:r>
              <a:rPr b="0" lang="fr-FR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 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tez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u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IF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posez le contr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rêtez d'argumen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cluez le contrat en toute confi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1.  « Optez pour WIFM »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IFM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–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at’s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t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r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?”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«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'est-ce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ela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'apporte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?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»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'est le discours préféré de votre client, le 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ul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qui l'intéres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us devez connaître ses beso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us devez les lui rappel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rlez-lui uniquement des avantages que le contrat va lui offrir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2.  Proposez le contr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us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vez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dentifié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s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esoins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tr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us lui avez présenté à titre consultatif une solution adapté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us avez le droit de lui demander d'acheter votre solution … Alors faites-le 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3.  Arrêtez d'argumenter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07732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tr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ait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'il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eu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l vous a demandé de fournir la solution qui lui convient et vous l'avez fait 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lus vous parlez, plus il pense que vous n'êtes pas capable de lui fournir cette sol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essez de parler et laissez-le prendre sa déc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4.  Concluez le contrat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	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ut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t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stion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fi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 votre client sent que vous avez confiance en votre solution, lui aussi lui fera confi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confiance repose sur une préparation minutie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À la fin de votre présentation finale, préparez-vous à réfuter toutes les objec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7T03:11:24Z</dcterms:created>
  <dc:creator/>
  <dc:description/>
  <dc:language>en-US</dc:language>
  <cp:lastModifiedBy>Jennifer Tornay</cp:lastModifiedBy>
  <dcterms:modified xsi:type="dcterms:W3CDTF">2004-06-22T13:24:26Z</dcterms:modified>
  <cp:revision>24</cp:revision>
  <dc:subject/>
  <dc:title>Closing The Deal</dc:title>
</cp:coreProperties>
</file>