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2E62-1C6E-4FF6-A07F-EBEB1781B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5894-0AEB-47BD-9AF8-2C10731A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7142-93B0-4860-80AE-097CC57FF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9F06-A2C3-4BED-A3BC-58931D7BF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2F72-C607-470E-82F9-2D0EFF3CA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B0A1-A16B-4227-81F3-1DBBD1CA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279E-0D36-4993-BA29-D883FF3D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F7CA-6283-44C7-8890-AEF8DC8C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2246-62C2-4CB5-860D-7CCD00E9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6751-0189-43BF-9588-0106406C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E636-44AB-4237-B638-47B00D59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80F5-B152-4D4F-A536-9D624BF4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0233-619F-43AD-95B7-6A390574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E7EE-F792-415F-ACD7-76B7A90C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3F76-44D3-49B5-B4AB-BAD352DE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661F-308D-4A17-9012-9F90E89EE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56F3-DB34-4908-9338-3F795E71D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386D-5311-42FA-AF0E-A1DA97BB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C014-6A2D-4DF9-8BD7-894F5634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C405-7463-468C-B908-5577F7B8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7B2A-BDFA-43A6-AC39-1BB8F210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B46D-4C47-4310-AD06-2681DA84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CF22-BB2B-4DBB-B36E-FA68A7C4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E50C-895B-4275-AA48-2B48C0EA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7D43-56E6-4453-8E2F-237401A743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50A8-8631-4119-8C6E-3BA2644704B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Geschäftsabschlus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3765240"/>
            <a:ext cx="84582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nfach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ritt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kaufsgesprä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Vier Schritte zum Geschäftsabschluss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setz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ch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g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gen Sie direkt nach dem Geschäftsabschlu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enden Sie das Verkaufsgesprä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ließen Sie das Geschäft vertrauensvoll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Versetzen Sie sich in die Lage des Kunden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egen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rteil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s ist die wichtigste Frage, die sich der Kunde stel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en Sie den Grund für den Kauf in Erfahr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innern Sie den Kunden an den Grund seines Kauf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prechen Sie nur, wie der Kunde von diesem Geschäftsabschluss profitier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Fragen Sie direkt nach dem Geschäftsabschluss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b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darf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kan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eine Lösung vorgeschlagen, die sich am Bedarf des Kunden orienti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sich das Recht erarbeitet, den Kunden jetzt zu fragen, ob Ihre vorgeschlagene Lösung gefällt und er zum Kauf bereit ist... also fragen Si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Beenden Sie das Verkaufsgespräch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iß,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öcht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 Kunde hat Sie darum gebeten, und Sie haben die Lösung gelief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 länger sie sprechen, desto eher denkt der Kunde, Sie hätten noch keine Lösung unterbreit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rechen Sie an dieser Stelle vorerst nicht weiter, um dem Kunden die Gelegenheit zu geben, sich zu entschei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Schließen Sie das Geschäft ab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schäftsabschlüs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nn der Kunde überzeugt ist, dass Sie Vertrauen in Ihre Lösung haben, dann wird er ebenfalls Vertrauen in Ihre Lösung ha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 entsteht durch Vorbereit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Üben Sie Ihre endgültige Präsentation in einem Rollenspiel, und bereiten Sie Antworten auf mögliche Einwände vo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53Z</dcterms:modified>
  <cp:revision>24</cp:revision>
  <dc:subject/>
  <dc:title>Closing The Deal</dc:title>
</cp:coreProperties>
</file>