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5D7D-D532-4AB8-AFD4-D4B1923FB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9C0F-27A5-4D92-BA6D-D79F2D0CC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5104-EF24-457A-A8A6-B27432373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3156-CCA7-4FAC-A9A8-093ECB94F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BC9C2-9CF3-4A26-8602-2EF8274AE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E466B-B367-45E7-B14D-69AA6EDBC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CA960-B038-48F4-A638-CF58871CE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B1F9F-BB0D-4ACA-B9BB-AABAD5746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72C7F-EA90-4192-92F7-182AB29FD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AF2A2-0445-4AFB-A085-4ED410A9B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9BAAF-265B-40EC-A044-5D7177B6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3D5B-3CEF-423D-9C8B-1BD76EBB9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86F23-425E-4922-B260-775ECF45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1EC34-1599-4D53-975C-05942329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9D3DB-603C-4ACF-96A5-1A4029C62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CB397-1BF4-4DE9-A14E-7CDACCEC5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6246A-ECB0-492E-9249-F85263FC6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E363-B982-475B-ACA7-556E06867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A38B-4D4C-4A3D-8A83-0574A8269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F21B-950F-413D-A087-65C67A69E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ACFC-4CF6-4359-9B1E-2C756ACD6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6B35-F5D2-4FF9-B1F4-CB0F80EF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8079-71EA-400E-AB8F-DA73ABA5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0DCA-8E4A-4F53-8F6F-DCE8553A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1A3FD-0065-425A-BC43-D33F2F03349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013C5-2D00-4757-BA37-42F7B288D5C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Cerrar el trato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440" y="3765240"/>
            <a:ext cx="80010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so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ácil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orda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men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 pasos para cerrar el trato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ntoni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di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HP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onga el tr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je de ve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ierre el trato con confi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“Sintonice la radio en QHPM”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HPM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–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é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y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a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 la emisora favorita, y la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nic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que su cliente escuch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pa por qué están compr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uérdeles por qué están compr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ábleles sólo acerca de cómo les va a ayudar este tr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Exponga el trato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d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cesidad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 ha presentado una posible solución a sus neces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 se ha ganado el derecho a pedirles que compren la solución recomendada... ¡Pues pídasel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Deje de vende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be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ier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 han pedido que se lo facilite, ¡y ya lo ha hech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anto más hable, más pensarán que no está satisfecho con la solución ofrec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je de hablar y permítales que decid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Cierre el trato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rra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m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 los clientes creen que usted tiene confianza en su solución, ellos también la tendrá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confianza es producto de la prepa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e la presentación final y prepare respuestas para posibles objecion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5:45Z</dcterms:modified>
  <cp:revision>24</cp:revision>
  <dc:subject/>
  <dc:title>Closing The De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58052149</vt:r8>
  </property>
  <property fmtid="{D5CDD505-2E9C-101B-9397-08002B2CF9AE}" pid="3" name="_AuthorEmailDisplayName">
    <vt:lpwstr>Kathleen McAneany</vt:lpwstr>
  </property>
  <property fmtid="{D5CDD505-2E9C-101B-9397-08002B2CF9AE}" pid="4" name="_EmailSubject">
    <vt:lpwstr>Files</vt:lpwstr>
  </property>
  <property fmtid="{D5CDD505-2E9C-101B-9397-08002B2CF9AE}" pid="5" name="_ReviewingToolsShownOnce">
    <vt:lpwstr/>
  </property>
</Properties>
</file>