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2CC0-1692-4AA1-BED1-BDB652D39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265E-5903-495D-A62C-68219D4C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1831-BFC4-46D6-AF7F-59787F6CB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DF6A-E503-44DA-BA8D-E9E2AC0A7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9E32-EB0C-4DD7-B9BB-7D2F0AAA0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5277-89ED-4CFA-ACE2-D2391E84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6761-7618-4D05-B7DB-F94DBA2E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0800-3511-49A9-BF2D-BEF0A42B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9B99-BF2E-48D9-8EE6-EF1B2B5F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7A16-E960-4C49-89D4-C5B09A95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049D-4014-4331-8DB4-9F19DBC3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2F66-5D34-4508-8092-E261D86B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8F7B-8971-4F36-AED7-11BFCD90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8B19-59E9-4C2A-940A-B4D5D3EE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B801-53FE-42E7-A58F-837632FD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B5FE-ECB5-49F3-BD55-10F9A1EBB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1965-F66C-4E1E-9830-D0FE78599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590E-C2B8-4DE8-A004-29266FCD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D693-CB5E-48A9-B97D-1E8AFDC7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AD25-6B3F-45B6-B95D-5AB62E8E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53AF-8FB3-4448-A131-C6D28210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F87D-8F52-411A-9939-3BE17F41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AB60-452B-41D6-9B1C-AEC05D39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6FEF-F8A1-4B8D-A79A-AE1CB837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20B6-353F-43C3-A0C6-F0AADA714C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10BA-C7B5-406C-91DB-97C9B2AD462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Geschäftsabschluss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3765240"/>
            <a:ext cx="84582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e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nfach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ritt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kaufsgesprä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Vier Schritte zum Geschäftsabschluss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setz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ch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g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gen Sie direkt nach dem Geschäftsabschlu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enden Sie das Verkaufsgesprä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ließen Sie das Geschäft vertrauensvoll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Versetzen Sie sich in die Lage des Kunden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egen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rteil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s ist die wichtigste Frage, die sich der Kunde stel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ngen Sie den Grund für den Kauf in Erfahr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innern Sie den Kunden an den Grund seines Kauf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prechen Sie nur, wie der Kunde von diesem Geschäftsabschluss profitier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Fragen Sie direkt nach dem Geschäftsabschluss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b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darf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kan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eine Lösung vorgeschlagen, die sich am Bedarf des Kunden orienti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sich das Recht erarbeitet, den Kunden jetzt zu fragen, ob Ihre vorgeschlagene Lösung gefällt und er zum Kauf bereit ist... also fragen Si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Beenden Sie das Verkaufsgespräch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iß,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öcht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 Kunde hat Sie darum gebeten, und Sie haben die Lösung gelief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e länger sie sprechen, desto eher denkt der Kunde, Sie hätten noch keine Lösung unterbreit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rechen Sie an dieser Stelle vorerst nicht weiter, um dem Kunden die Gelegenheit zu geben, sich zu entschei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Schließen Sie das Geschäft ab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schäftsabschlüs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nn der Kunde überzeugt ist, dass Sie Vertrauen in Ihre Lösung haben, dann wird er ebenfalls Vertrauen in Ihre Lösung hab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 entsteht durch Vorbereit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Üben Sie Ihre endgültige Präsentation in einem Rollenspiel, und bereiten Sie Antworten auf mögliche Einwände vo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53Z</dcterms:modified>
  <cp:revision>24</cp:revision>
  <dc:subject/>
  <dc:title>Closing The Deal</dc:title>
</cp:coreProperties>
</file>