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9E76-6BE7-4D48-A738-C411B24AB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195B-2149-4017-BFAE-A884DEA76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4893-A35B-4B30-80DA-82E478336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4A26-3F0E-4229-AD34-2E5FC6BD9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5BDF4-7B93-4D8B-8FBE-3F96B38BA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E7003-9DDE-487E-BB5D-9BE50D781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BDE49-237B-4446-8DEB-06E01E714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207D5-A0C9-4F0C-A342-4F36932AE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0DBC5-8DF8-46EA-9E96-90F469B8C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D90A2-85B1-4EF2-A84A-7E342F119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22E59-C961-4748-8F39-23C90A5DD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BD9C-FF7B-4AAA-8EF0-A7961FF0B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DDC28-1434-467A-B688-AEAD7976E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9D053-6BFF-4F98-83FC-E8602939A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E8A5A-642C-4EB9-9CD6-B6E284885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A32D4-CD70-4E46-902A-22A130BBA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9A1D3-F3A9-4676-8491-D06D20AD6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C94D-4F78-46C0-B9A5-45C98B1EE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9CF9-DBB9-47B6-8B35-85D23FC56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C0E4-F301-49DF-A09B-D7457D302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8887-1957-4EDB-A6D2-8BE8A4C3F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C837-C04D-4017-97E7-310BC741F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FFF2-642B-4196-B978-CAD2E813C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B6D6-7336-4EE2-80F2-EFAE819E2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58AC2-1B94-4AE6-976E-45B9D699E14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EDF75-AD79-4CF2-8207-CB96F425559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Fechando o negócio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533520" y="3657240"/>
            <a:ext cx="807696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atr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apa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ácei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vem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mbrada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ment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goci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Quatro etapas para fechar um negócio</a:t>
            </a:r>
            <a:r>
              <a:rPr b="0" lang="en-US" sz="38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car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stã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nh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licitar o negó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ar a ve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echar o negócio com confianç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“Focar a questão O que ganho com isso”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nh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so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sa é a pergunta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vorit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de seus clie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iba por que eles estão compran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mbre-os por que estão compran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le com eles o essencial: como este negócio irá ajudá-lo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Solicitar o negócio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cê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cou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cessidade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cê apresentou uma solução de consultoria para suas necessida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cê ganhou o direito de solicitar que eles comprem sua solução recomendada... Então, solicit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Parar a venda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u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bem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rem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es solicitaram que você os atendesse e você os atendeu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anto mais você fala, mais eles acham que você ainda não concluiu o fornecimento da soluçã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e de falar e deixe-os decidi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Fechar o negócio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echament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m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góci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tá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lacionad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à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fianç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 o cliente perceber que você confia em sua solução, eles confiarão ne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confiança vem com a prepara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saie sua apresentação final e prepare respostas às objeçõe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3:58Z</dcterms:modified>
  <cp:revision>24</cp:revision>
  <dc:subject/>
  <dc:title>Closing The De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58052149</vt:r8>
  </property>
  <property fmtid="{D5CDD505-2E9C-101B-9397-08002B2CF9AE}" pid="3" name="_AuthorEmailDisplayName">
    <vt:lpwstr>Kathleen McAneany</vt:lpwstr>
  </property>
  <property fmtid="{D5CDD505-2E9C-101B-9397-08002B2CF9AE}" pid="4" name="_EmailSubject">
    <vt:lpwstr>Files</vt:lpwstr>
  </property>
  <property fmtid="{D5CDD505-2E9C-101B-9397-08002B2CF9AE}" pid="5" name="_ReviewingToolsShownOnce">
    <vt:lpwstr/>
  </property>
</Properties>
</file>