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741A-B1FC-43EB-9977-9CD5D92EB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9351-E6DC-45A5-B528-41544331F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A770-954B-42AA-A303-AEDD1B9CD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48C8-E8C6-4BE1-9B24-E79A1DA8F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4FE4B-8188-44F4-8829-CE0D392A5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6559A-68BA-4097-96AC-91C58D659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ADFFC-F018-41B3-851D-365833A53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8BE91-E2A1-44F6-B1B6-1B9A3799B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3218F-3567-4C26-8D05-E68BF5CCB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AB984-A151-43B0-9B8C-FC5CD0E54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89EC7-9481-4DDA-8B71-879D205B6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E58C-8EA1-4537-AE91-3E189AB49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ABB62-36CB-4D29-BD9A-B9D6FCCB0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47D53-B66B-42A1-A0EC-1C36A109D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05DD4-9E18-4DCF-877F-D80DCE4B4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820ED-76D8-477B-94CB-B90704A48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13668-A5EA-4598-A9B0-19194BB39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877B-FAD0-448A-9A8D-1C347075D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91B8-1D69-4803-9897-A30025E26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3ECB-5997-4215-8FAD-499D631E5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A2A6-B1BA-4B1D-A90E-17160B64B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A2EC-4905-4762-A54C-EB4A12A4D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7831-E50F-40A3-AD41-A825C3997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C342-CF76-444D-8985-925AF1A84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784E1-0590-4BD5-B5E0-24D64E1DEEF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F2B12-009C-45DA-8381-EFE0E92EB28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4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Geschäftsabschluss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6840" y="3765240"/>
            <a:ext cx="845820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er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infache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hritte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ür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s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erkaufsgesprä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Vier Schritte zum Geschäftsabschluss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ersetzen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e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ch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e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ge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Kund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ragen Sie direkt nach dem Geschäftsabschlu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eenden Sie das Verkaufsgespräc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hließen Sie das Geschäft vertrauensvoll 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1.  Versetzen Sie sich in die Lage des Kunden</a:t>
            </a:r>
            <a:endParaRPr b="0" lang="en-US" sz="3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50720" indent="-45072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o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iegen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e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rteile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ür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ic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es ist die wichtigste Frage, die sich der Kunde stell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71560" indent="-41868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ringen Sie den Grund für den Kauf in Erfahru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71560" indent="-41868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rinnern Sie den Kunden an den Grund seines Kauf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71560" indent="-41868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esprechen Sie nur, wie der Kunde von diesem Geschäftsabschluss profitier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2.  Fragen Sie direkt nach dem Geschäftsabschluss</a:t>
            </a:r>
            <a:endParaRPr b="0" lang="en-US" sz="3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e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aben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n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edarf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hres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Kunden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rkan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e haben eine Lösung vorgeschlagen, die sich am Bedarf des Kunden orientier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e haben sich das Recht erarbeitet, den Kunden jetzt zu fragen, ob Ihre vorgeschlagene Lösung gefällt und er zum Kauf bereit ist... also fragen Si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3.  Beenden Sie das Verkaufsgespräch</a:t>
            </a:r>
            <a:endParaRPr b="0" lang="en-US" sz="3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07732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50720" indent="-45072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hr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Kunde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iß,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s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r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öchte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hr Kunde hat Sie darum gebeten, und Sie haben die Lösung geliefer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e länger sie sprechen, desto eher denkt der Kunde, Sie hätten noch keine Lösung unterbreit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prechen Sie an dieser Stelle vorerst nicht weiter, um dem Kunden die Gelegenheit zu geben, sich zu entscheid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4.  Schließen Sie das Geschäft ab</a:t>
            </a:r>
            <a:r>
              <a:rPr b="0" lang="en-US" sz="38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	</a:t>
            </a:r>
            <a:endParaRPr b="0" lang="en-US" sz="3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eschäftsabschlüs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asier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u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ertrau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98560" indent="-43164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nn der Kunde überzeugt ist, dass Sie Vertrauen in Ihre Lösung haben, dann wird er ebenfalls Vertrauen in Ihre Lösung hab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98560" indent="-43164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ertrauen entsteht durch Vorbereitu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98560" indent="-43164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Üben Sie Ihre endgültige Präsentation in einem Rollenspiel, und bereiten Sie Antworten auf mögliche Einwände vor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7T03:11:24Z</dcterms:created>
  <dc:creator/>
  <dc:description/>
  <dc:language>en-US</dc:language>
  <cp:lastModifiedBy>Jennifer Tornay</cp:lastModifiedBy>
  <dcterms:modified xsi:type="dcterms:W3CDTF">2004-06-22T13:24:53Z</dcterms:modified>
  <cp:revision>24</cp:revision>
  <dc:subject/>
  <dc:title>Closing The Deal</dc:title>
</cp:coreProperties>
</file>