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495A-3D35-4828-95BD-256FDE3E2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8DE8-FB81-4B67-AD59-3C497700D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7D07-D20F-456D-B160-DE791F284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9FAB-DF4E-4269-AF9E-D0B0E1012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22A60-7F3C-4E26-AF14-539AE29E6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F8D86-2AA8-490E-B2C2-65399CD13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B6246-867C-4814-BA0A-19B1DD3B2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B2B94-187B-4806-97DF-2F33596DB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4ED28-E2E0-425A-B879-090FC64B3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4B7C6-AB57-4D0A-AF5B-4CAB2500C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BF8B1-A8D2-4A48-9C7F-004180222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123F-D55B-4D5C-822A-7A67C4ED3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5E84B-239F-4C82-801D-3642AB174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FE94C-83CF-465C-B069-624C945B6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106D3-7CAD-41D2-8DAF-9E6DD072E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DEBC3-486E-4268-B0B2-061187A7F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47326-B1C9-4D47-B4FF-CAB393CF0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94BB-A626-4EE0-BFE8-D45BC351F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ED1C-C6EC-487A-AC5A-8C7B47B09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27D8-9B9B-4D90-8F77-1EA99BEE2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448F-F01F-462B-80E7-07F87DC8C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350D-A864-4C0A-8C15-5B49E0837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2745-73DE-4DF0-9782-AD63073FB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21D2-539A-4DD5-92B2-9F2B8200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4C316-F171-4A3D-A43B-11FA490B9B4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059EA-E0C2-4A1F-B72B-B4674AB84C3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Cerrar el trato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85440" y="3765240"/>
            <a:ext cx="800100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so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ácil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orda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ment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 pasos para cerrar el trato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ntoni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di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HP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onga el tr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je de ve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ierre el trato con confian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“Sintonice la radio en QHPM”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HPM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–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é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y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a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 la emisora favorita, y la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únic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que su cliente escuch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pa por qué están compr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uérdeles por qué están compr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ábleles sólo acerca de cómo les va a ayudar este tra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Exponga el trato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ad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cesidad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a ha presentado una posible solución a sus neces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a se ha ganado el derecho a pedirles que compren la solución recomendada... ¡Pues pídasel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Deje de vender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be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ier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 han pedido que se lo facilite, ¡y ya lo ha hech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uanto más hable, más pensarán que no está satisfecho con la solución ofrec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je de hablar y permítales que decid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Cierre el trato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rra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t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m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an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 los clientes creen que usted tiene confianza en su solución, ellos también la tendrá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confianza es producto de la prepa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pare la presentación final y prepare respuestas para posibles objecion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5:45Z</dcterms:modified>
  <cp:revision>24</cp:revision>
  <dc:subject/>
  <dc:title>Closing The De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58052149</vt:r8>
  </property>
  <property fmtid="{D5CDD505-2E9C-101B-9397-08002B2CF9AE}" pid="3" name="_AuthorEmailDisplayName">
    <vt:lpwstr>Kathleen McAneany</vt:lpwstr>
  </property>
  <property fmtid="{D5CDD505-2E9C-101B-9397-08002B2CF9AE}" pid="4" name="_EmailSubject">
    <vt:lpwstr>Files</vt:lpwstr>
  </property>
  <property fmtid="{D5CDD505-2E9C-101B-9397-08002B2CF9AE}" pid="5" name="_ReviewingToolsShownOnce">
    <vt:lpwstr/>
  </property>
</Properties>
</file>