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9CE0-20DC-40B5-84C7-4B321401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085F-1D8F-4236-8D88-C3827E93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B248-B313-4ECA-871E-3C741A73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D7C4-BDAA-4AD7-9E0D-0FD5E6C8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4178-4D48-4E26-BB4D-E3535CB9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101D-19DB-452B-BF2B-426B9C50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6378-3A45-406A-B901-9D87BF8E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CC7F-3484-4F1F-BBC1-6626D6BA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E65A-4EE7-4EE6-9527-01907117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5434-9E19-4D0E-B713-8265DB52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CA59-B351-4A90-AE33-A1A41C41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DDE4-C8C0-426A-AA06-EE51C9D6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990C-E19C-4B9B-B6F6-82891529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D5E7-74BC-4AE4-A9D3-2217E8B2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3F30-AB59-4D15-933E-481EE4B3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F07B-B4F6-4A97-9333-21936C684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5A82-E16C-48A8-8D14-2FD64987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5613-65CA-4310-A44A-FAB14D48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C2DD-B0C0-4D1E-93B4-78584923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797F-7380-4B86-B15C-E2F1DA37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464E-2837-47E0-9C5A-6E982DE9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2323-D22B-4BB8-8D5E-6E2D38AE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40C9-4FBF-4908-AA3E-D5FE57BB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21BE-100F-47B4-83C9-DA83265A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75F4-7C0A-48BD-8312-51724AF406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863A-0BE9-4A9B-9754-A6D5E6DB0EE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Geschäftsabschlus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3765240"/>
            <a:ext cx="84582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nfach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rit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kaufsgesprä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Vier Schritte zum Geschäftsabschluss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setz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ch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g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gen Sie direkt nach dem Geschäftsabschl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enden Sie das Verkaufsgesprä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ließen Sie das Geschäft vertrauensvoll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Versetzen Sie sich in die Lage des Kunden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egen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rteil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s ist die wichtigste Frage, die sich der Kunde stel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en Sie den Grund für den Kauf in Erfahr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innern Sie den Kunden an den Grund seines Kauf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prechen Sie nur, wie der Kunde von diesem Geschäftsabschluss profitier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Fragen Sie direkt nach dem Geschäftsabschluss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b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darf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kan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eine Lösung vorgeschlagen, die sich am Bedarf des Kunden orienti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sich das Recht erarbeitet, den Kunden jetzt zu fragen, ob Ihre vorgeschlagene Lösung gefällt und er zum Kauf bereit ist... also fragen Si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Beenden Sie das Verkaufsgespräch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iß,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öcht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 Kunde hat Sie darum gebeten, und Sie haben die Lösung gelief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 länger sie sprechen, desto eher denkt der Kunde, Sie hätten noch keine Lösung unterbreit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rechen Sie an dieser Stelle vorerst nicht weiter, um dem Kunden die Gelegenheit zu geben, sich zu entschei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Schließen Sie das Geschäft ab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schäftsabschlüs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nn der Kunde überzeugt ist, dass Sie Vertrauen in Ihre Lösung haben, dann wird er ebenfalls Vertrauen in Ihre Lösung ha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 entsteht durch Vorbereit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Üben Sie Ihre endgültige Präsentation in einem Rollenspiel, und bereiten Sie Antworten auf mögliche Einwände vo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53Z</dcterms:modified>
  <cp:revision>24</cp:revision>
  <dc:subject/>
  <dc:title>Closing The Deal</dc:title>
</cp:coreProperties>
</file>