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EE6A-23BB-449E-9779-1BD0F42FE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2A4A-4C51-419A-8D69-DC94DA641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2E2E-030C-4CBF-ADC0-C5453670F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00E6-1A9D-4E7B-A6A0-B60EC0238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56BF8-F248-46A8-AABA-AC5375A15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D9EEA-A033-4B5F-BBFF-42C953328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67D91-63B5-47FD-830A-20F2578EB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48815-1F94-4A6E-98F9-488F7999D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A7956-CE1D-41E9-8DD4-8371509F4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07893-4A0D-49B0-B768-646B3E497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BFEF2-0B8D-452A-8CE0-9E6C6F53B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E7E3-4D1A-45A2-AD69-4742A1F68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B5F52-D5FE-4243-A1B3-99D16B6A3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D3C2F-8077-49AC-86CA-2D9E857BC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AD03D-B46E-462A-964E-86B4B5C83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FBE44-FDAF-46F8-8860-2DE91ABF2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9DAEC-F0FC-460C-96AF-E2F136056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A9E0-1BDD-43D9-B21A-610A8D1BC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2D22-6DD1-462B-960B-2C5B41B03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B63E-4E05-42F9-9D3D-F06A3B578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033B-8F35-4656-AB39-F8A6E586B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0491-1AF2-4E8C-86AB-6367C41BA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8CD8-28D4-471D-BD8E-D3C25672B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7132-AA5C-4FF9-9473-A9707C91B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13EE5-32C0-4A89-9F2E-55EDACAD960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0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1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4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0B632-30A5-44AB-9222-5BFF8A0845C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925040" cy="26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Tahoma"/>
              </a:rPr>
              <a:t>How To Run a Successful </a:t>
            </a:r>
            <a:br>
              <a:rPr sz="5400"/>
            </a:br>
            <a:r>
              <a:rPr b="0" lang="en-US" sz="5400" spc="-1" strike="noStrike">
                <a:solidFill>
                  <a:srgbClr val="333399"/>
                </a:solidFill>
                <a:latin typeface="Tahoma"/>
              </a:rPr>
              <a:t>Brainstorm Session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7238880" y="4981680"/>
            <a:ext cx="175284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scuss the Objectives of the Exercis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ate big picture business goal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ke sure players realize why they have been invi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 up the specific goals for the progr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 Up a Relax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pen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to meet at a fresh location that may be less stressfu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refreshments and music upon ent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liminate negative or stressful person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 a Positive and Focused To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ork to get the team in the mind set of your intended customer by providing customer examples or case stud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humor and positive examples to encourage ide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 the Guidelines for Succes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ke sure presented ideas are NOT challenged or “put down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e up front that those who consistently make negative comments will be eje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ppropriate Tools Availab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truly read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ve a white board or large tabl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 a scrib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ve access to the internet and corporate intranet for quick re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sure you eliminate all interruptions or confli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Moderator -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ey to Succes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st be someone the group will trust with ide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uld be confident with subject matter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uld pose questions to get group back on track only when need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features do you think our customers value the mos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dea Collec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 up a relay system to deliver ide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ve the scribe write large enough so ideas can display and branch off of each o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reate Energy Arou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se New Ide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ve the team refine and then present the final ide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blicly post final ide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llow through on best ideas to create energy across the organ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0T19:23:04Z</dcterms:created>
  <dc:creator/>
  <dc:description/>
  <dc:language>en-US</dc:language>
  <cp:lastModifiedBy>DataViz, Inc.</cp:lastModifiedBy>
  <dcterms:modified xsi:type="dcterms:W3CDTF">2002-07-02T23:15:54Z</dcterms:modified>
  <cp:revision>44</cp:revision>
  <dc:subject/>
  <dc:title>Successful Brainstorming</dc:title>
</cp:coreProperties>
</file>