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A18D-D9E5-4D54-AE6E-879A2EB5D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A533-1A2D-4D35-98CE-D2CEC683E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30FE-ADA8-4843-9226-133F72C5C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BE65-4D25-4396-9849-D9C77507D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BF679-37E4-4D07-8AE7-16D347B96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9411D-B70D-4CB3-8745-381BFFBAF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C874C-F756-4CD3-998A-8AC0E18C7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8A8EF-95C1-4EFB-AE40-3AB29C76C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72DCE-A282-4F82-96A1-2F677EB53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1628B-25CA-4E9E-A14D-A5BE1073A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348FF-F035-44A8-AAB9-DD50835C4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C271-031C-4C49-86AD-93BC34D58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6BB9F-D510-4C5E-8A44-7A155A0D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555ED-EAB8-4CC8-B9BB-D989A6B0F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B02C8-AD5B-4EE7-BA30-D3C5CBE89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4E10C-4EF3-41D9-91F9-BE887F896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F65BC-F5D5-4FDF-9CA7-7533E8054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4123-FDCC-4963-9E40-0CB1B794D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0B2B-811B-4E8E-9EA4-F964B3788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D461-AC38-4EA3-8652-349ECDD51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CEE3-AA95-4C41-B2D3-5D414955E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1B21-761C-4BF3-948D-AA9FC8B4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7C17-BD81-4CD2-A443-FE519963C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87C2-3210-4DF1-9A48-1E683F17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211F8-7D5C-45E3-9401-25C89008D9D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51204-4B72-489F-8231-0FFED361114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2057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Signer un contr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761760" y="3765600"/>
            <a:ext cx="746748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t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eil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cile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ppeler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men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r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91440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Quatre conseils pour signer un contrat</a:t>
            </a:r>
            <a:r>
              <a:rPr b="0" lang="fr-FR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 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te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u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F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osez le contr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rêtez d'argumen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ez le contrat en toute conf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« Optez pour WIFM »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FM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–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t’s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?”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«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'est-ce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la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'apporte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?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»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'est le discours préféré de votre client, le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ul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qui l'intéres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 devez connaître ses beso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 devez les lui rappe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lez-lui uniquement des avantages que le contrat va lui offrir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Proposez le contr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vez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é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soin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t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 lui avez présenté à titre consultatif une solution adapté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 avez le droit de lui demander d'acheter votre solution … Alors faites-le 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Arrêtez d'argumenter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t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i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'il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u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l vous a demandé de fournir la solution qui lui convient et vous l'avez fait 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lus vous parlez, plus il pense que vous n'êtes pas capable de lui fournir cette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ssez de parler et laissez-le prendre sa déc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Concluez le contrat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u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stion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 votre client sent que vous avez confiance en votre solution, lui aussi lui fera confi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confiance repose sur une préparation minutie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À la fin de votre présentation finale, préparez-vous à réfuter toutes les obje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4:26Z</dcterms:modified>
  <cp:revision>24</cp:revision>
  <dc:subject/>
  <dc:title>Closing The Deal</dc:title>
</cp:coreProperties>
</file>