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AECB-1AE9-43B1-88C5-487C2F1EF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6264-17F9-4C96-B863-78A48F7E7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7C45-DCC5-48A1-A64D-558D18AFD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45F6-C2BD-4247-9B19-570D48212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77302-B489-4420-820F-BDF9A5A13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6DC0F-ADEB-493F-BB6A-79870C889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F3D96-6283-4ED5-A7C4-ECD123B73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083AD-248E-4B5D-9563-416159C80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10217-FEEB-426A-B70E-BED34D074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A448B-A981-4088-A6B9-2FD0F103C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6E6EF-E214-44F7-A63E-FCF7D939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49C2-4873-4458-A08F-4E38521FF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633CB-6AF2-4013-A9B8-6BBAB45F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A8CC2-96F6-4878-80CA-9BD1637A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99E80-4451-460A-95AF-F1848D017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5BB4E-0640-4407-82DC-4972EB339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13A2B-A0C3-4C1F-A097-B1636F470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D540-CD23-4E4C-B598-EB4A0C47B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3A36-17A5-49C1-A9AC-A92761B97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8847-263F-4B89-A2AB-9F5E41999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E02D-7F0A-41DD-99BF-3E3E179B2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1313-A162-4524-8EF9-BC502CE08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D6F8-2BFA-4829-9CDA-7581C52B1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CA48-AD55-4213-9F88-1B8B89B25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412BC-62D9-470C-9FBA-618CFBFE2D8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2E57D-6A75-4A2A-A897-6624A85F947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Fechando o negócio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33520" y="3657240"/>
            <a:ext cx="807696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tr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apa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ácei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vem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mbrada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ment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goci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Quatro etapas para fechar um negócio</a:t>
            </a:r>
            <a:r>
              <a:rPr b="0" lang="en-US" sz="38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car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stã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nh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licitar o negó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ar a ve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char o negócio com confianç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“Focar a questão O que ganho com isso”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nh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so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sa é a pergunta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vorit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de seus cli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iba por que eles estão compran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mbre-os por que estão compran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le com eles o essencial: como este negócio irá ajudá-lo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Solicitar o negócio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cê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ou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cessidade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cê apresentou uma solução de consultoria para suas necessid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cê ganhou o direito de solicitar que eles comprem sua solução recomendada... Então, solicit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Parar a venda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u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bem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rem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es solicitaram que você os atendesse e você os atendeu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nto mais você fala, mais eles acham que você ainda não concluiu o fornecimento da soluçã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e de falar e deixe-os decidi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Fechar o negócio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chament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m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góci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á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lacionad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à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anç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 o cliente perceber que você confia em sua solução, eles confiarão ne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confiança vem com a prepara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saie sua apresentação final e prepare respostas às objeçõe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3:58Z</dcterms:modified>
  <cp:revision>24</cp:revision>
  <dc:subject/>
  <dc:title>Closing The De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58052149</vt:r8>
  </property>
  <property fmtid="{D5CDD505-2E9C-101B-9397-08002B2CF9AE}" pid="3" name="_AuthorEmailDisplayName">
    <vt:lpwstr>Kathleen McAneany</vt:lpwstr>
  </property>
  <property fmtid="{D5CDD505-2E9C-101B-9397-08002B2CF9AE}" pid="4" name="_EmailSubject">
    <vt:lpwstr>Files</vt:lpwstr>
  </property>
  <property fmtid="{D5CDD505-2E9C-101B-9397-08002B2CF9AE}" pid="5" name="_ReviewingToolsShownOnce">
    <vt:lpwstr/>
  </property>
</Properties>
</file>