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34D3-CEA1-4B51-890D-B5CF35E1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6EC7-18B6-4F9C-B02F-6D8C29E5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DEB4-F3AB-4AF6-AA1F-14780548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CD59-8653-4CAC-A631-7D9D32ED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405A-957F-4BB3-8986-2949A7FBB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2DAA-7458-4B2D-B8A8-AFF23EB9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133A-28B3-4374-9886-885B1D5E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A788-7861-497E-A9AD-13C45BF3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519D-D35B-4070-8815-511ACC9D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7B8E-55CB-4234-9374-15C1AF64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B57C-9C98-402F-9261-466902BA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5EBE-A701-4AE4-879C-0884BA5B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ADEF-1DD1-4138-B1FF-7BC5DABF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19D2-07ED-4D3A-B3E0-A23F660F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37E1-46D4-48D1-81D9-7DCC6370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E600-4B59-4888-9C7A-B026DD55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1AE7-042E-439E-BCAE-FD9D2BEE6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5A0E-D30F-4044-AD94-6A320E3C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61E6-159C-4244-9DCC-36BAB441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89C4-BBAB-4A5B-8F9D-9A67703F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A327-91E0-4F19-8C92-9313A560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190E-3811-4955-991B-E23A30F4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254E-600D-49A9-BA56-14F2AA99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EA09-F00E-4D01-A13F-6FE089D7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C01C-8763-4BE5-A324-57B3DC4184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BCB8-0CF3-4057-930D-6194EC69CC0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errar el trat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440" y="3765240"/>
            <a:ext cx="8001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i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rd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os para cerrar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ton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nga el 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v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erre el trato con 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Sintonice la radio en QHPM”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é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y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la emisora favorita, y 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que su cliente escu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uérdeles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ábleles sólo acerca de cómo les va a ayudar este tr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Exponga el trato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idad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ha presentado una posible solución a su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se ha ganado el derecho a pedirles que compren la solución recomendada... ¡Pues pídase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Deje de vend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han pedido que se lo facilite, ¡y ya lo ha hech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anto más hable, más pensarán que no está satisfecho con la solución ofrec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hablar y permítales que deci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ierre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r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m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los clientes creen que usted tiene confianza en su solución, ellos también la tend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za es producto de la prepa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la presentación final y prepare respuestas para posibles objeci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45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