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DBE9-D0DE-49A4-8F4E-693F36EC4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A41C-ADC0-4AF4-B0E9-8C0DF2783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267C-D75C-4584-9EDE-99CA89EFE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3570-881C-4B22-B410-CDB855A95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6D5A3-3A06-4265-BF97-4D529713C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480CB-AE88-4713-A8E5-20E256265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B94CD-3BA9-44B8-AAC9-9465D94B0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DFFDB-ADEB-4AAB-9D78-E6BA5E789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39925-DB3A-4F9B-976E-FE595C2F8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46EB2-5D96-448E-B13C-F3ED149DC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158B0-A8AB-467E-9BA3-AD37F8DA0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135E-AC9F-4B6D-A5DC-43074A74A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61BEA-7FE4-4352-9277-670DD826B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9E787-A835-4589-A5AE-31D220F83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F18B1-B44C-4158-BC22-CB0B2045C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040A9-DCFA-404B-9094-70C7302FE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6A4D1-F251-44F8-BEE1-8DE209D16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C928-1D28-40CD-8203-19715A6D2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B1CE-990E-442F-8EC3-0DE26300A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C663-8C16-474E-9BDF-C2CAAD807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58F2-A789-4354-9BC8-D7FA8A535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0547-8ACA-4DB2-9FD1-0ECD5B858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235A-A778-4EAA-A3C0-D19483763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6E4A-6F60-43E9-9F2B-103D3A85E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60488-9C9F-4914-959A-F39871FB0EF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7FB88-3754-4DB3-B6CF-0AB7E518275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4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2057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Signer un contr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761760" y="3765600"/>
            <a:ext cx="746748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atr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seils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aciles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à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ppeler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u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ment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clur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r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560" y="91440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Quatre conseils pour signer un contrat</a:t>
            </a:r>
            <a:r>
              <a:rPr b="0" lang="fr-FR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 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tez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u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IF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posez le contr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rêtez d'argumen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cluez le contrat en toute confi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1.  « Optez pour WIFM »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IFM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–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at’s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t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r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?”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«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'est-ce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ela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'apporte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?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»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'est le discours préféré de votre client, le 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ul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qui l'intéres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us devez connaître ses beso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us devez les lui rappel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rlez-lui uniquement des avantages que le contrat va lui offrir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2.  Proposez le contr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us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vez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dentifié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s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esoins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tr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us lui avez présenté à titre consultatif une solution adapté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us avez le droit de lui demander d'acheter votre solution … Alors faites-le 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3.  Arrêtez d'argumenter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07732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tr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ait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'il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eu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l vous a demandé de fournir la solution qui lui convient et vous l'avez fait 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lus vous parlez, plus il pense que vous n'êtes pas capable de lui fournir cette sol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essez de parler et laissez-le prendre sa déc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4.  Concluez le contrat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	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ut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t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stion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fi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 votre client sent que vous avez confiance en votre solution, lui aussi lui fera confi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confiance repose sur une préparation minutie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À la fin de votre présentation finale, préparez-vous à réfuter toutes les objec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7T03:11:24Z</dcterms:created>
  <dc:creator/>
  <dc:description/>
  <dc:language>en-US</dc:language>
  <cp:lastModifiedBy>Jennifer Tornay</cp:lastModifiedBy>
  <dcterms:modified xsi:type="dcterms:W3CDTF">2004-06-22T13:24:26Z</dcterms:modified>
  <cp:revision>24</cp:revision>
  <dc:subject/>
  <dc:title>Closing The Deal</dc:title>
</cp:coreProperties>
</file>